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3412D-2D0E-415E-A8CE-0C361F509B4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akespeare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akespeare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idence (quo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la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idence (quo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la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es for exa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and moti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formance of the pl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guage of th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as, themes and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es for exa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and moti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formance of the pl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guage of th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as, themes and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and motiv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question could ask what we learn about the characters, the reasons for their behaviour and their relationships with each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How important is (?) role in these two extrac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Show how and why (?) behaviour changes in these two extr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and motiv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question could ask what we learn about the characters, the reasons for their behaviour and their relationships with each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How important is (?) role in these two extrac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Show how and why (?) behaviour changes in these two extr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formance of the pla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question may be about how an audience reacts to the play, or how you would direct a particular character in the two extra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want them to act and react and why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want them to scowl as they say something you need to explain what this will show e.g. his disgust, his f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formance of the pla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question may be about how an audience reacts to the play, or how you would direct a particular character in the two extra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want them to act and react and why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want them to scowl as they say something you need to explain what this will show e.g. his disgust, his f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guage of the tex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standing the language is important and you could have a question about what a character says and what you think they really m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(quote given) explore the significance of this statement in relation to these two extra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guage of the tex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standing the language is important and you could have a question about what a character says and what you think they really m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(quote given) explore the significance of this statement in relation to these two extra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as, themes and issu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ys deal with a number of issues, so the question might ask you about how the characters are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Comparing your two extracts explain how the issue of (?) is explo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as, themes and issu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ys deal with a number of issues, so the question might ask you about how the characters are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Comparing your two extracts explain how the issue of (?) is explo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ckle that ques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the qu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the question again and pick out the key words (think about the focuses I have just talked abou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through your extr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t down/plan what things you want to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the question a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 (make sure you compare and write in essay sty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ckle that ques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the qu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the question again and pick out the key words (think about the focuses I have just talked abou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through your extr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t down/plan what things you want to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the question a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 (make sure you compare and write in essay sty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idence (quo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la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idence (quo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la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7DDF-14D6-406E-A71D-075964A12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41F5-95B5-4BFA-891A-D49C6ECAE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8C19-B6CC-40E8-B096-687510060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A9E6-FD8B-4FD5-9C26-DE750EFD3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FCF5A-170B-4F5C-B96E-2B9427C21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01B52-3BC5-4649-8CCA-67143FD86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EDE42-BB18-4EE9-867E-B7C2AB6BA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869F9-E459-426B-B372-E3F8C562D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A48E8-DA05-454F-9090-D73B7F310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3707F-55DD-4CBC-9A75-A337AFC44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22035-301D-4853-AB88-6B216924D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CA56-F38A-42FB-B630-A9DA3B5CE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98E74-51A1-46C6-AA8A-BF467A14F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E30BC-1605-4C66-ACE6-E4D634616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296D7-942A-4AC9-8478-EE3D7517B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EBFBB-FA41-47F5-905E-910B7C796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B721F-C746-49EA-A230-82C4FCFDF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6FFB-C03F-4E42-AA49-C27175FD2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7A39-2E94-476B-B329-10004D077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22B3-E0C3-4247-BB2D-7B80FB41C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1410-A9E2-4A7A-B395-F109CC843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A174-194C-4A49-9897-10D7404B8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7537-9EFB-485D-89D1-2BA0C9FB1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64FF-9025-4C55-9445-34B5256BF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29E03-59AF-49B9-BB2D-D300C5638B3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CD0EA-A0D1-48CC-84DB-0F9D0337A60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330033"/>
                </a:solidFill>
                <a:latin typeface="Times New Roman"/>
              </a:rPr>
              <a:t>SATs</a:t>
            </a:r>
            <a:endParaRPr b="0" lang="en-US" sz="10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500" spc="-1" strike="noStrike">
                <a:solidFill>
                  <a:srgbClr val="000000"/>
                </a:solidFill>
                <a:latin typeface="Arial"/>
              </a:rPr>
              <a:t>Shakespeare Paper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500" spc="-1" strike="noStrike">
                <a:solidFill>
                  <a:srgbClr val="330033"/>
                </a:solidFill>
                <a:latin typeface="Times New Roman"/>
              </a:rPr>
              <a:t>PEE</a:t>
            </a:r>
            <a:endParaRPr b="0" lang="en-US" sz="6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oin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vidence (quote)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xplanatio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0033"/>
                </a:solidFill>
                <a:latin typeface="Times New Roman"/>
              </a:rPr>
              <a:t>Focuses for exam:</a:t>
            </a:r>
            <a:endParaRPr b="0" lang="en-US" sz="5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haracter and motiv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The performance of the pla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The language of the tex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Ideas, themes and issu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0033"/>
                </a:solidFill>
                <a:latin typeface="Times New Roman"/>
              </a:rPr>
              <a:t>Character and motivation:</a:t>
            </a:r>
            <a:endParaRPr b="0" lang="en-US" sz="5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question could ask what we learn about the characters, the reasons for their behaviour and their relationships with each oth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S Mincho"/>
              </a:rPr>
              <a:t>E.g.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MS Mincho"/>
              </a:rPr>
              <a:t>How</a:t>
            </a:r>
            <a:r>
              <a:rPr b="0" lang="en-US" sz="3200" spc="-1" strike="noStrike">
                <a:solidFill>
                  <a:srgbClr val="000000"/>
                </a:solidFill>
                <a:latin typeface="MS Mincho"/>
              </a:rPr>
              <a:t> important is (?) role in thes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MS Mincho"/>
              </a:rPr>
              <a:t>two</a:t>
            </a:r>
            <a:r>
              <a:rPr b="0" lang="en-US" sz="3200" spc="-1" strike="noStrike">
                <a:solidFill>
                  <a:srgbClr val="000000"/>
                </a:solidFill>
                <a:latin typeface="MS Mincho"/>
              </a:rPr>
              <a:t> extrac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S Mincho"/>
              </a:rPr>
              <a:t>E.g. Show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MS Mincho"/>
              </a:rPr>
              <a:t>how and why</a:t>
            </a:r>
            <a:r>
              <a:rPr b="0" lang="en-US" sz="3200" spc="-1" strike="noStrike">
                <a:solidFill>
                  <a:srgbClr val="000000"/>
                </a:solidFill>
                <a:latin typeface="MS Mincho"/>
              </a:rPr>
              <a:t> (?) behaviou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MS Mincho"/>
              </a:rPr>
              <a:t>changes</a:t>
            </a:r>
            <a:r>
              <a:rPr b="0" lang="en-US" sz="3200" spc="-1" strike="noStrike">
                <a:solidFill>
                  <a:srgbClr val="000000"/>
                </a:solidFill>
                <a:latin typeface="MS Mincho"/>
              </a:rPr>
              <a:t> in these two extr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30033"/>
                </a:solidFill>
                <a:latin typeface="Times New Roman"/>
              </a:rPr>
              <a:t>The performance of the play: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question may be about how an audience reacts to the play, or how you would direct a particular character in the two extra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you want them to act and react and wh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want them to scowl as they say something you need to explain what this will show e.g. his disgust, his f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0033"/>
                </a:solidFill>
                <a:latin typeface="Times New Roman"/>
              </a:rPr>
              <a:t>The language of the text:</a:t>
            </a:r>
            <a:endParaRPr b="0" lang="en-US" sz="5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Understanding the language is important and you could have a question about what a character says and what you think they really mea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S Mincho"/>
              </a:rPr>
              <a:t>E.g. (quote given)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MS Mincho"/>
              </a:rPr>
              <a:t>explore</a:t>
            </a:r>
            <a:r>
              <a:rPr b="0" lang="en-US" sz="2800" spc="-1" strike="noStrike">
                <a:solidFill>
                  <a:srgbClr val="000000"/>
                </a:solidFill>
                <a:latin typeface="MS Mincho"/>
              </a:rPr>
              <a:t>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MS Mincho"/>
              </a:rPr>
              <a:t>significance</a:t>
            </a:r>
            <a:r>
              <a:rPr b="0" lang="en-US" sz="2800" spc="-1" strike="noStrike">
                <a:solidFill>
                  <a:srgbClr val="000000"/>
                </a:solidFill>
                <a:latin typeface="MS Mincho"/>
              </a:rPr>
              <a:t> of this statement in relation to thes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MS Mincho"/>
              </a:rPr>
              <a:t>two extracts</a:t>
            </a:r>
            <a:r>
              <a:rPr b="0" lang="en-US" sz="2800" spc="-1" strike="noStrike">
                <a:solidFill>
                  <a:srgbClr val="000000"/>
                </a:solidFill>
                <a:latin typeface="MS Mincho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Ideas, themes and issues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plays deal with a number of issues, so the question might ask you about how the characters are involve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MS Mincho"/>
              </a:rPr>
              <a:t>E.g. </a:t>
            </a:r>
            <a:r>
              <a:rPr b="0" lang="en-US" sz="3400" spc="-1" strike="noStrike" u="sng">
                <a:solidFill>
                  <a:srgbClr val="000000"/>
                </a:solidFill>
                <a:uFillTx/>
                <a:latin typeface="MS Mincho"/>
              </a:rPr>
              <a:t>Comparing</a:t>
            </a:r>
            <a:r>
              <a:rPr b="0" lang="en-US" sz="3400" spc="-1" strike="noStrike">
                <a:solidFill>
                  <a:srgbClr val="000000"/>
                </a:solidFill>
                <a:latin typeface="MS Mincho"/>
              </a:rPr>
              <a:t> your two extracts explain </a:t>
            </a:r>
            <a:r>
              <a:rPr b="0" lang="en-US" sz="3400" spc="-1" strike="noStrike" u="sng">
                <a:solidFill>
                  <a:srgbClr val="000000"/>
                </a:solidFill>
                <a:uFillTx/>
                <a:latin typeface="MS Mincho"/>
              </a:rPr>
              <a:t>how</a:t>
            </a:r>
            <a:r>
              <a:rPr b="0" lang="en-US" sz="3400" spc="-1" strike="noStrike">
                <a:solidFill>
                  <a:srgbClr val="000000"/>
                </a:solidFill>
                <a:latin typeface="MS Mincho"/>
              </a:rPr>
              <a:t> the issue of </a:t>
            </a:r>
            <a:r>
              <a:rPr b="0" lang="en-US" sz="3400" spc="-1" strike="noStrike" u="sng">
                <a:solidFill>
                  <a:srgbClr val="000000"/>
                </a:solidFill>
                <a:uFillTx/>
                <a:latin typeface="MS Mincho"/>
              </a:rPr>
              <a:t>(?)</a:t>
            </a:r>
            <a:r>
              <a:rPr b="0" lang="en-US" sz="3400" spc="-1" strike="noStrike">
                <a:solidFill>
                  <a:srgbClr val="000000"/>
                </a:solidFill>
                <a:latin typeface="MS Mincho"/>
              </a:rPr>
              <a:t> is </a:t>
            </a:r>
            <a:r>
              <a:rPr b="0" lang="en-US" sz="3400" spc="-1" strike="noStrike" u="sng">
                <a:solidFill>
                  <a:srgbClr val="000000"/>
                </a:solidFill>
                <a:uFillTx/>
                <a:latin typeface="MS Mincho"/>
              </a:rPr>
              <a:t>explore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330033"/>
                </a:solidFill>
                <a:latin typeface="Times New Roman"/>
              </a:rPr>
              <a:t>Tackle that question:</a:t>
            </a:r>
            <a:endParaRPr b="0" lang="en-US" sz="5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d the 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d the question again and pick out the key words (think about the focuses I have just talked abou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d through your extr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ot down/plan what things you want to incl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d the question ag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gin (make sure you compare and write in essay sty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500" spc="-1" strike="noStrike">
                <a:solidFill>
                  <a:srgbClr val="330033"/>
                </a:solidFill>
                <a:latin typeface="Times New Roman"/>
              </a:rPr>
              <a:t>PEE</a:t>
            </a:r>
            <a:endParaRPr b="0" lang="en-US" sz="6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oin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vidence (quote)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xplanatio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5T10:17:29Z</dcterms:created>
  <dc:creator>Andrea Lownes</dc:creator>
  <dc:description/>
  <dc:language>en-US</dc:language>
  <cp:lastModifiedBy>RomaK</cp:lastModifiedBy>
  <dcterms:modified xsi:type="dcterms:W3CDTF">2015-09-02T09:42:50Z</dcterms:modified>
  <cp:revision>10</cp:revision>
  <dc:subject/>
  <dc:title>SATs</dc:title>
</cp:coreProperties>
</file>